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934-C284-4401-8522-1BD04073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E10F-20B6-466D-ABB5-AC563EA8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56D-30BC-4AE9-A86F-AABBBE74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AF3-DD6B-4369-9B75-75016021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252-ED64-448F-BB4D-D1A088F5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7C61-BDDC-4988-A419-E95F74DF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4D5-81D3-48A7-AECF-C2CB824A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799-7D02-4989-A768-697BDB04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53B-E1C9-4EBE-BEBA-478BF7C9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6D4-C675-40D2-9288-6E4F9068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D85-1017-4D03-A249-0E848B25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F5B-F131-440D-8BBF-FBF9EC50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A1B8-B351-4046-AE8F-66CC55BF9E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7886520" cy="1428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AU" sz="6000" spc="-1" strike="noStrike">
                <a:solidFill>
                  <a:srgbClr val="000000"/>
                </a:solidFill>
                <a:latin typeface="Calibri"/>
              </a:rPr>
              <a:t>who is the arsenal coach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 arsene wanger</a:t>
            </a:r>
            <a:r>
              <a:rPr b="0" lang="en-AU" sz="6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Alex Ferguson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ick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ro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4288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lick 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lick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The arsenal museum is where?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 the arsenal museum at Manchester stadiu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Emirates Stadiu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alibri"/>
              </a:rPr>
              <a:t>Click he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ick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The arsenal clock is wher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Arsenal stadiu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alibri"/>
              </a:rPr>
              <a:t>In Liverpool stadiu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rong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lick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alibri"/>
              </a:rPr>
              <a:t>The arsenal soccer clouth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alibri"/>
              </a:rPr>
              <a:t>Red and whit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alibri"/>
              </a:rPr>
              <a:t>Blue and black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22:24:26Z</dcterms:created>
  <dc:creator>user</dc:creator>
  <dc:description/>
  <dc:language>en-US</dc:language>
  <cp:lastModifiedBy>user</cp:lastModifiedBy>
  <dcterms:modified xsi:type="dcterms:W3CDTF">2009-10-04T23:44:29Z</dcterms:modified>
  <cp:revision>9</cp:revision>
  <dc:subject/>
  <dc:title>Slide 1</dc:title>
</cp:coreProperties>
</file>